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06A3-1B29-46BF-9386-956EC1EC2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9DB-A27F-4CB3-9696-4CFBB5ED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CB5-756F-48D1-9F7D-526EE900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ABE-0085-4484-87EC-CC6490C5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F9DD5-068D-4E43-99F8-380F0C53E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A8E5C-58BC-46DB-9648-0A8E3D2F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F0F75-6D5E-46D8-90BE-9986D65C7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28A7-D614-4AB6-8F47-C805BB97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12C5B-CF2B-478F-A1E6-8DA16946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0152-87E3-46BD-8F1C-1060FC2E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01130-3B56-4343-A9DC-6B847A1C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C911-94F9-487D-AE6A-3CC9D4BCD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AEE8A-D033-40A0-BC99-362AA530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8ADB-63A8-4D64-90AF-05A6F318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AA53-9541-494D-A918-C4E3B266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A2B4-76DD-4BB5-9648-FFDAFA62C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0BE0-290F-4649-91A1-430DEEC3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B868-1A79-4FB8-A3CD-CE26E9158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F9EE-92DC-4432-9180-944DDD75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EC8A-B823-4340-A67B-0929F304A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00A4-41DD-419D-A833-A7D28745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BD96-58E5-4DB3-8AAD-DA22E45C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2D8-1342-44DD-8882-7159B09B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DBC0-FAB1-480A-B96E-920F1C01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480EE-ED35-4E4E-9F58-4114394E5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2"/>
          <a:stretch/>
        </p:blipFill>
        <p:spPr>
          <a:xfrm>
            <a:off x="7238880" y="228600"/>
            <a:ext cx="1447920" cy="12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6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7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33723-387C-4236-82AC-064482195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3000" y="464796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 22nd Janu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6640" y="1676520"/>
            <a:ext cx="7734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ount Albert Grammar School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ew Staff Ori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505320" y="228600"/>
            <a:ext cx="160020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ihi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lcome and introductions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le Burden, Head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Mount Albert Gramm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ctations of MAGS - Dale Burden, Associate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ports and Cultur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rt at MAGS - Kerry Baker, Director of S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ts at MAGS - Milicia Zjajic-M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rama and D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Stage Challe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Music and b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b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apa Ha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anet, Library, IC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services - Library, ICT , School website and our Intran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lise Goddard, Director of Information Lite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Daily Routin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you are unsure, ASK…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ay at MAGS - Yevette Williams, Director of Stu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AMAR database and attendance - Chris Metcalfe, Director of Junior Bo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iplinary procedures - Director of Girls, Te Aroha Kee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ol trips  - Dale Bu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y relief - T.B.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915320" y="379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4479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6658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Provisionally registered 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cher programm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ies to 1st and 2nd year New Zealand trained teachers AND experienced teachers new to New Zealand edu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 meeting schedule run by Matt Bertram (Director of Boys) -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andout attached with Term One mee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4479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tart of the year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 dates, events and meetings including the Powhiri - refer ‘Beginning of Year Information’ bookl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4479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ppendic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haviour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r place in the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ps on tim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ship with stu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ration vis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238880" y="228600"/>
            <a:ext cx="1447920" cy="124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w staff orientation overview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9T02:39:40Z</dcterms:created>
  <dc:creator>ICT</dc:creator>
  <dc:description/>
  <dc:language>en-US</dc:language>
  <cp:lastModifiedBy>John Pipe</cp:lastModifiedBy>
  <dcterms:modified xsi:type="dcterms:W3CDTF">2007-12-19T03:12:23Z</dcterms:modified>
  <cp:revision>15</cp:revision>
  <dc:subject/>
  <dc:title>             </dc:title>
</cp:coreProperties>
</file>